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9977-78D0-4ED6-87F6-1060F6F8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B90E-5F43-4559-BB9A-AFEC01EB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376-0B09-4092-A6ED-E3F9F1FD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91E-486C-4CA0-93CC-47DD0F4D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722-AC25-457D-B0D1-FA3D572E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BB1-1B48-4B9E-B28E-7FB7D95E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12A-5897-4707-86FD-39C3D765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3EC-8E64-4E46-AEC9-1722DD5B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723-9BDD-43FE-B758-328063BE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3AE-0573-4ECF-99FE-EC4FBBB5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2FE-DCD0-47D5-91E2-45C7C33D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7D3-761F-442F-82AA-DFD1C9B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64A-1EC4-4FC9-A693-4EF4747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F3C-04FE-46A0-85A2-54566C8F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DCDA-91FA-4C62-93B6-1956EAF7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itl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d in Central Mexico- The valley of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ital- Tenochtit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-believed in many gods (like sun of god, thunder of god, rain of god and other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other tribes as slaves and human sacri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3043080" cy="1752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5874840" y="5410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380600" y="5867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ms.ap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at the Mexican cost- Yucat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yas were 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229280" cy="3124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6095880" y="63244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13716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8839080" y="-27660600"/>
            <a:ext cx="24288480" cy="23317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995400" y="63244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mecompan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914400" y="3276720"/>
            <a:ext cx="2857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ived in South America, in the Andes M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capital wa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polytheistic which means belief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s human sacrifice –(childre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791320" y="4191120"/>
            <a:ext cx="3124080" cy="2133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80480" y="632448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oyer.pb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hostage, and Montezuma was killed in the fight that follow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came from Spain looking f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5803560" y="60199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on-bar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2857320" cy="2133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766520" y="62485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costforecas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demanded that a room filled with gold and silver, &amp; then Atahualpa would be retu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zarro trick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s and after they delivered the ransom, he did not re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ahualpa and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n emperor was eventually kill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820040" y="624852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detisionlinesucces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372120" cy="2133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389960" y="632448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ing-gold.goldpric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conquistadors &amp; explorers changed Central &amp; South America forev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(2011) most of South &amp; Central America speaks Spa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(2011) majority of peoples in Central and South America are Christen, and no longer worship their native go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2:13Z</dcterms:created>
  <dc:creator>jklib</dc:creator>
  <dc:description/>
  <dc:language>en-US</dc:language>
  <cp:lastModifiedBy>Tim &amp; Karen</cp:lastModifiedBy>
  <dcterms:modified xsi:type="dcterms:W3CDTF">2011-11-30T23:13:31Z</dcterms:modified>
  <cp:revision>20</cp:revision>
  <dc:subject/>
  <dc:title>Conquerors and Pre Columbian Cilvization</dc:title>
</cp:coreProperties>
</file>